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B6C-19B5-456B-97BF-60D8A5DA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3BE-1201-45A6-9ED1-BE53E20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77F-B63E-4F6A-BA9E-9DD5CAE5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9B7-12A4-4B70-84F5-846E2998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4E3-9D6A-4D07-B9E6-451A1F3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D8F-5443-4756-91C0-2E1B6A93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A88-1D2E-4228-8B9A-D236063E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7CB-828A-4450-9D62-36D9680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593-2692-4C14-A1DD-FC54A913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A4F-750E-4116-ABA9-B2C44ED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131-2A6B-4F5F-9485-E538AB8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585-6CC9-4519-80CB-70770AC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buClr>
                <a:srgbClr val="6e8b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6720" y="640044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8744-146C-4CF7-B1E7-8A7AA9BAA522}" type="slidenum"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5880" y="58928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0"/>
            <a:ext cx="380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UNIVERSITY OF VIRGIN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440"/>
            <a:ext cx="190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59CB-0B86-4DFB-A651-954809B1D9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1 Core plus FPU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vid Tarj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ausewitz: “War is very simple, but in War the simplest things become very difficult.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alogy: HW Synthesis is very simple, but in HW Synthesis the simplest things become very difficul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 single core with FPU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PU wired in through wishbone interfac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51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module s1_top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ys_clock_i, sys_reset_i, sys_irq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ack_i, wbm_data_i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wbm_cycle_o, wbm_strobe_o, wbm_we_o, wbm_addr_o, wbm_data_o, wbm_sel_o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module instanc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arc sparc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SPARC Core to Wishbone Master bridg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spc2wbm spc2wbm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/ FPU outputs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req_pq(fpu_pcx_req_pq),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u_pcx_data_pa(fpu_pcx_data_pa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dt: adding FPU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fpu fpu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rdy_px2(fpu_pcx_req_pq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pcx_fpio_data_px2(fpu_pcx_data_pa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arst_l(cmp_a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rst_l(cmp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clk(gclk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luster_cken(cluster_cke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req_cq(cpx_fpu_request_px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fp_cpx_data_ca(cpx_fpu_data_cx2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pre_grst_l(ctu_tst_pre_grst_l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global_shift_enable(global_shift_en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_disable(ctu_tst_scan_disabl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canmode(ctu_tst_scanmode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macrotest(ctu_tst_macrotest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ctu_tst_short_chain(ctu_tst_short_cha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i(fpu_scanin),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.so(fpu_scanout)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Rese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rst_ctrl rs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 Interrupt Controller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*/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int_ctrl int_ctrl_0 (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);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-181800">
              <a:lnSpc>
                <a:spcPct val="80000"/>
              </a:lnSpc>
              <a:spcBef>
                <a:spcPts val="1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endmodule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1818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ther problem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de for most modules have ifdefs for synthesis (FPGA_SYN), Sun’s somewhat custom synthesis (DEFINE_0IN) and a generic synthesis (everything else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n’s code path has some proble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ata cache and instruction cache are incomplet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/`ifdef DEFINE_0IN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ire [3:0] dc_we = dcache_wvld_m ? dcache_wr_rway_m : 4'b0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0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0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0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1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1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1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2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2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2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dc_data dc_data3 ( .nclk(~clk), .adr(dcache_rwaddr_m[10:4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we(dc_we           [3]  ), .wm(way_mask  [143:0])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.din(dcache_wdata_m[143:0]), .dout(temp_w3a[143:0]) )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`els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ote those modules, us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Front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Using TSMC 0.18u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SRAM macros Cadence tutoria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56x16 and 128x16 bit hard macro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ynthesis Result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Instance                                              Cells   Cell Area   Net Area     Wireloa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1_top                                               109398    13906100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sparc_0                                             86549    13246901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Georgia"/>
              </a:rPr>
              <a:t>fpu_0                                               20987      605398          0   TSMC18_Conservative (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Backend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/O: 27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rea: 21.9 mm^2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rns out the SRAM macro 128x16 has same area 256x16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6:06:44Z</dcterms:created>
  <dc:creator>dtarjan</dc:creator>
  <dc:description/>
  <dc:language>en-US</dc:language>
  <cp:lastModifiedBy>dtarjan</cp:lastModifiedBy>
  <dcterms:modified xsi:type="dcterms:W3CDTF">2006-12-13T17:55:18Z</dcterms:modified>
  <cp:revision>16</cp:revision>
  <dc:subject/>
  <dc:title>S1 Core plus FPU</dc:title>
</cp:coreProperties>
</file>